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B27C-9336-4DA1-94CA-B79C5E7F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778-9E66-47AB-A6A5-30AA6DB5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7606-3A84-400E-B22A-2A9A9EB5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0674-A90B-4DC6-91DD-47CEDCA7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434A-7826-4D7B-864D-D4205C15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22E3-4B29-4671-8BED-31D4A1D3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BCBA-2FC6-4C9A-9ED5-E7E3AD8B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C8EC-9E30-4AC1-9417-F15AE829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0DEF-A5FC-4E3A-BB1F-0C01354D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8712-2090-4BCB-A7A6-CFA7C6D1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8FB9-F3D6-42E6-A3E0-E4ED6C5A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24A2-E1A1-4030-B37E-D1B9021F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1BB4-8A33-452C-B106-80F81052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3AB2-7FF1-4C8B-BBF4-E3BA0F5A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77F9-731F-4FE9-9735-81302DF2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9676-89CF-409B-99F5-3B9E93B6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6E98-14E2-4346-BBBD-B2FAA47A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C3FB-D82A-41DC-A3DE-177FC2E9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CC0C-BAD4-47CC-AC68-A59CC29D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B69-48E1-4C82-9525-AE5568C4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6DD7-990E-48C8-AA1D-7B13C319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029E-3A40-4B05-B6ED-3664DFCB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B0A9-099F-49D7-B242-5F2893F3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A140-B199-426F-B783-ECE4DF2F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9C24-D1F7-43BC-AB01-E0F0890A19C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F16E-5B23-4E09-A947-3B35E35ECAB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1600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Catchup"/>
              </a:rPr>
              <a:t>Reading</a:t>
            </a:r>
            <a:br>
              <a:rPr sz="8000"/>
            </a:br>
            <a:r>
              <a:rPr b="0" lang="en-US" sz="8000" spc="-1" strike="noStrike">
                <a:solidFill>
                  <a:srgbClr val="ccecff"/>
                </a:solidFill>
                <a:latin typeface="Catchup"/>
              </a:rPr>
              <a:t>Discovery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tchup"/>
              </a:rPr>
              <a:t>Using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tchup"/>
              </a:rPr>
              <a:t>Non-fiction Strategies Effective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371840" y="3762360"/>
            <a:ext cx="47721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atchup"/>
              </a:rPr>
              <a:t>Third Gea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kimming the tex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 when you need basic answers or information quick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don’t have to read every word, until you locate the information you ne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419720" y="4267080"/>
            <a:ext cx="43624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600"/>
                            </p:stCondLst>
                            <p:childTnLst>
                              <p:par>
                                <p:cTn id="25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7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6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3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16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66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atchup"/>
              </a:rPr>
              <a:t>Fourth Gea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anning the text rapid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 when looking for a particular word or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r eyes move quickly over the page until you find what you are looking f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381640" y="2438280"/>
            <a:ext cx="3762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800"/>
                            </p:stCondLst>
                            <p:childTnLst>
                              <p:par>
                                <p:cTn id="28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5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8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3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3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18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3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3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68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atchup"/>
              </a:rPr>
              <a:t>Before Reading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010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66"/>
                </a:solidFill>
                <a:latin typeface="Catchup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66"/>
                </a:solidFill>
                <a:latin typeface="Catchup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tivate prior knowled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66"/>
                </a:solidFill>
                <a:latin typeface="Catchup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ite down wond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66"/>
                </a:solidFill>
                <a:latin typeface="Catchup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t a spe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781520" y="3819600"/>
            <a:ext cx="43624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400"/>
                            </p:stCondLst>
                            <p:childTnLst>
                              <p:par>
                                <p:cTn id="31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3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74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24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74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24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ccecff"/>
                </a:solidFill>
                <a:uFillTx/>
                <a:latin typeface="Catchup"/>
              </a:rPr>
              <a:t>During</a:t>
            </a:r>
            <a:r>
              <a:rPr b="0" lang="en-US" sz="5400" spc="-1" strike="noStrike">
                <a:solidFill>
                  <a:srgbClr val="ccecff"/>
                </a:solidFill>
                <a:latin typeface="Catchup"/>
              </a:rPr>
              <a:t> Reading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that you have prepared your brain, you are ready to read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member: “READING IS THINKING”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effective strategies to help you make sense of what you are reading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676520" y="4487760"/>
            <a:ext cx="591480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400"/>
                            </p:stCondLst>
                            <p:childTnLst>
                              <p:par>
                                <p:cTn id="3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6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7400"/>
                            </p:stCondLst>
                            <p:childTnLst>
                              <p:par>
                                <p:cTn id="34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240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740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3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3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atchup"/>
              </a:rPr>
              <a:t>Visualiz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illustrations to help you create mental pictures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d in images from your own experiences so that you create a “Mental Movie”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581280" y="3733920"/>
            <a:ext cx="525780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600"/>
                            </p:stCondLst>
                            <p:childTnLst>
                              <p:par>
                                <p:cTn id="37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4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600"/>
                            </p:stCondLst>
                            <p:childTnLst>
                              <p:par>
                                <p:cTn id="37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3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160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3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3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atchup"/>
              </a:rPr>
              <a:t>Predic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y attention to section headings and subtitles to help you know what is coming up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eate questions, then search for  answers as you read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657600" y="4068720"/>
            <a:ext cx="51055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200"/>
                            </p:stCondLst>
                            <p:childTnLst>
                              <p:par>
                                <p:cTn id="39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7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62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3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3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92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3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3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ccecff"/>
                </a:solidFill>
                <a:uFillTx/>
                <a:latin typeface="Catchup"/>
              </a:rPr>
              <a:t>Before</a:t>
            </a:r>
            <a:r>
              <a:rPr b="0" lang="en-US" sz="5400" spc="-1" strike="noStrike">
                <a:solidFill>
                  <a:srgbClr val="ccecff"/>
                </a:solidFill>
                <a:latin typeface="Catchup"/>
              </a:rPr>
              <a:t> You Read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is the preparation stag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me and care take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befor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ding will make the actual reading experience easi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44197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400"/>
                            </p:stCondLst>
                            <p:childTnLst>
                              <p:par>
                                <p:cTn id="1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4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14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atchup"/>
              </a:rPr>
              <a:t>Set A Purpos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cide why you are reading this inform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make a decision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create something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elp you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school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038480" y="4114800"/>
            <a:ext cx="486756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atchup"/>
              </a:rPr>
              <a:t>Preview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ad headlines and subtit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 at pictures and other graphics; read cap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kim side ba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ad section outline in textbooks and artic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581280" y="4343400"/>
            <a:ext cx="5077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200"/>
                            </p:stCondLst>
                            <p:childTnLst>
                              <p:par>
                                <p:cTn id="7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8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2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12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2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12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Catchup"/>
              </a:rPr>
              <a:t>Activate Prior Knowledg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5790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sider what you already know about the subje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nk about connections to other knowledge you poss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114800" y="4191120"/>
            <a:ext cx="47242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200"/>
                            </p:stCondLst>
                            <p:childTnLst>
                              <p:par>
                                <p:cTn id="10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1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2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42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atchup"/>
              </a:rPr>
              <a:t>Write Question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6019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ke predictions about  information you expect to fi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rite down things you wondered while previewing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reate questions you think might be answered by the tex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638680" y="4191120"/>
            <a:ext cx="535788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600"/>
                            </p:stCondLst>
                            <p:childTnLst>
                              <p:par>
                                <p:cTn id="13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4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6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26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76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atchup"/>
              </a:rPr>
              <a:t>Set a Reading Speed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6019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od readers adjust their reading rate to fit the text and purpo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nk about WHY you are reading and WHAT you are read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n pick a spe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876920" y="2971800"/>
            <a:ext cx="400032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3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3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atchup"/>
              </a:rPr>
              <a:t>First Gea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low, thoughtful read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 when the text is complex or difficu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 when you are reading to remember important in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 when you are going to take a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038480" y="4503600"/>
            <a:ext cx="464832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600"/>
                            </p:stCondLst>
                            <p:childTnLst>
                              <p:par>
                                <p:cTn id="18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1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6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16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66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16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3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atchup"/>
              </a:rPr>
              <a:t>Second Gea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laxed read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 when reading for pleasu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 when the text is fairly simple for yo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ample: reading a novel or magaz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733920" y="4037040"/>
            <a:ext cx="48765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800"/>
                            </p:stCondLst>
                            <p:childTnLst>
                              <p:par>
                                <p:cTn id="2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4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8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18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68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18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3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3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23:50:42Z</dcterms:created>
  <dc:creator>Paul Yardley</dc:creator>
  <dc:description/>
  <dc:language>en-US</dc:language>
  <cp:lastModifiedBy>Paul Yardley</cp:lastModifiedBy>
  <dcterms:modified xsi:type="dcterms:W3CDTF">2008-04-10T03:10:09Z</dcterms:modified>
  <cp:revision>15</cp:revision>
  <dc:subject/>
  <dc:title>Reading Discovery</dc:title>
</cp:coreProperties>
</file>